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2047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7D73-59EE-48E6-A916-500EA51F9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85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4EE1-8922-43EE-A8B8-9D1C1EB8A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85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60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8800" y="1600200"/>
            <a:ext cx="5360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60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8800" y="3964320"/>
            <a:ext cx="5360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3CB3-396F-467F-BE0A-F0C58A832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85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23600" y="1600200"/>
            <a:ext cx="353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38080" y="1600200"/>
            <a:ext cx="353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23600" y="3964320"/>
            <a:ext cx="353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38080" y="3964320"/>
            <a:ext cx="353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C923-494F-4B71-9061-F6C758C5C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85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857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F746-95F2-47A4-BFB4-79EA204D0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85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8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1EC0-873D-4075-8A4B-82ED52EDE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85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60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8800" y="1600200"/>
            <a:ext cx="5360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5746-2A7B-48BF-A9AA-3BF81EA43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85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5774-9675-42B4-A48C-AC3B83469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85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0DB0-25D4-4D50-A7CF-684BDF297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85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60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8800" y="1600200"/>
            <a:ext cx="5360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60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68BB-0ADA-44E9-949B-20314ACB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85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60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8800" y="1600200"/>
            <a:ext cx="5360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8800" y="3964320"/>
            <a:ext cx="5360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37C7-149D-4E53-899C-4AB0C5E7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85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60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8800" y="1600200"/>
            <a:ext cx="5360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EF8E-C44F-4AA7-9BBE-9464C1125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85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8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70240" y="6356520"/>
            <a:ext cx="386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4692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0D485-34E8-4226-BB25-3B83FDB034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tbrS5DHh46U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5640" y="5229360"/>
            <a:ext cx="54547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00"/>
                </a:solidFill>
                <a:latin typeface="Arial"/>
              </a:rPr>
              <a:t>Запись собрания размещен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85280" y="5775120"/>
            <a:ext cx="113778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Tub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канале КИУ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www.youtube.com/watch?v=tbrS5DHh46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сайте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</a:rPr>
              <a:t>киу.рф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баннер на главной страниц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998720" y="0"/>
            <a:ext cx="799128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8819"/>
          <a:stretch/>
        </p:blipFill>
        <p:spPr>
          <a:xfrm>
            <a:off x="2357280" y="141120"/>
            <a:ext cx="7201080" cy="656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8"/>
          <p:cNvSpPr/>
          <p:nvPr/>
        </p:nvSpPr>
        <p:spPr>
          <a:xfrm>
            <a:off x="0" y="2895480"/>
            <a:ext cx="12204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3220920" y="260280"/>
            <a:ext cx="2160720" cy="503280"/>
          </a:xfrm>
          <a:prstGeom prst="rect">
            <a:avLst/>
          </a:prstGeom>
          <a:solidFill>
            <a:srgbClr val="014795"/>
          </a:solidFill>
          <a:ln w="9360">
            <a:solidFill>
              <a:srgbClr val="0147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МА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2503440" y="1182600"/>
            <a:ext cx="9502920" cy="55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14795"/>
                </a:solidFill>
                <a:latin typeface="Arial"/>
              </a:rPr>
              <a:t>Стресс у ребенка: как распознать и чем помочь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14795"/>
                </a:solidFill>
                <a:latin typeface="Arial"/>
              </a:rPr>
              <a:t>(Об эффективных методиках преодоления конфликтных и кризисных ситуаций в жизни детей и подростков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14795"/>
                </a:solidFill>
                <a:latin typeface="Arial"/>
              </a:rPr>
              <a:t>Выбираем профессию или будущее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14795"/>
                </a:solidFill>
                <a:latin typeface="Arial"/>
              </a:rPr>
              <a:t>(О роли семьи в формировании жизненных целей и профессиональном самоопределении подростков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14795"/>
                </a:solidFill>
                <a:latin typeface="Arial"/>
              </a:rPr>
              <a:t>Можно ли на экзамены идти с удовольствием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14795"/>
                </a:solidFill>
                <a:latin typeface="Arial"/>
              </a:rPr>
              <a:t>(Об эффективных методиках подготовки детей и подростков к аттестации знаний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14795"/>
                </a:solidFill>
                <a:latin typeface="Arial"/>
              </a:rPr>
              <a:t>Внимание! Особенный ребенок…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14795"/>
                </a:solidFill>
                <a:latin typeface="Arial"/>
              </a:rPr>
              <a:t>(Об особенностях воспитания и обучения детей с ограниченными возможностями здоровья)</a:t>
            </a:r>
            <a:r>
              <a:rPr b="1" lang="ru-RU" sz="2000" spc="-1" strike="noStrike">
                <a:solidFill>
                  <a:srgbClr val="014795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4795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5381640" y="260280"/>
            <a:ext cx="4373640" cy="504720"/>
          </a:xfrm>
          <a:prstGeom prst="rect">
            <a:avLst/>
          </a:prstGeom>
          <a:solidFill>
            <a:srgbClr val="a50021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НТЕРНЕТ-СОБР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414360" y="1341360"/>
            <a:ext cx="1800360" cy="863640"/>
          </a:xfrm>
          <a:prstGeom prst="rect">
            <a:avLst/>
          </a:prstGeom>
          <a:solidFill>
            <a:srgbClr val="a50021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16.02.201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414360" y="2708280"/>
            <a:ext cx="1800360" cy="865080"/>
          </a:xfrm>
          <a:prstGeom prst="rect">
            <a:avLst/>
          </a:prstGeom>
          <a:solidFill>
            <a:srgbClr val="a50021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23.03.201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414360" y="4078440"/>
            <a:ext cx="1800360" cy="863280"/>
          </a:xfrm>
          <a:prstGeom prst="rect">
            <a:avLst/>
          </a:prstGeom>
          <a:solidFill>
            <a:srgbClr val="a50021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20.04.201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414360" y="5445000"/>
            <a:ext cx="1800360" cy="863640"/>
          </a:xfrm>
          <a:prstGeom prst="rect">
            <a:avLst/>
          </a:prstGeom>
          <a:solidFill>
            <a:srgbClr val="a50021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18.05.201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10T15:20:05Z</dcterms:created>
  <dc:creator>timirjasova</dc:creator>
  <dc:description/>
  <dc:language>en-US</dc:language>
  <cp:lastModifiedBy>gabidullin</cp:lastModifiedBy>
  <dcterms:modified xsi:type="dcterms:W3CDTF">2018-01-25T07:15:08Z</dcterms:modified>
  <cp:revision>31</cp:revision>
  <dc:subject/>
  <dc:title>Вопросы принимаются в      WhatsApp:  8 987-270-8787</dc:title>
</cp:coreProperties>
</file>